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0200" y="533520"/>
            <a:ext cx="601992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425520"/>
            <a:ext cx="6019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-mal-clr" descr=""/>
          <p:cNvPicPr/>
          <p:nvPr/>
        </p:nvPicPr>
        <p:blipFill>
          <a:blip r:embed="rId3"/>
          <a:stretch/>
        </p:blipFill>
        <p:spPr>
          <a:xfrm>
            <a:off x="7772400" y="152280"/>
            <a:ext cx="838080" cy="75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IGN Technique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1" name="manual-cover" descr=""/>
          <p:cNvPicPr/>
          <p:nvPr/>
        </p:nvPicPr>
        <p:blipFill>
          <a:blip r:embed="rId2"/>
          <a:stretch/>
        </p:blipFill>
        <p:spPr>
          <a:xfrm>
            <a:off x="2690640" y="1198440"/>
            <a:ext cx="376092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1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76520" y="1600200"/>
            <a:ext cx="5562360" cy="4114800"/>
            <a:chOff x="1676520" y="1600200"/>
            <a:chExt cx="5562360" cy="4114800"/>
          </a:xfrm>
        </p:grpSpPr>
        <p:sp>
          <p:nvSpPr>
            <p:cNvPr id="94" name=""/>
            <p:cNvSpPr/>
            <p:nvPr/>
          </p:nvSpPr>
          <p:spPr>
            <a:xfrm>
              <a:off x="1676520" y="1600200"/>
              <a:ext cx="55623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752480" y="1676520"/>
              <a:ext cx="5362560" cy="39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2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1600" y="1676520"/>
            <a:ext cx="6477120" cy="3504960"/>
            <a:chOff x="1371600" y="1676520"/>
            <a:chExt cx="6477120" cy="3504960"/>
          </a:xfrm>
        </p:grpSpPr>
        <p:sp>
          <p:nvSpPr>
            <p:cNvPr id="98" name=""/>
            <p:cNvSpPr/>
            <p:nvPr/>
          </p:nvSpPr>
          <p:spPr>
            <a:xfrm>
              <a:off x="1371600" y="1676520"/>
              <a:ext cx="6477120" cy="35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427040" y="1784520"/>
              <a:ext cx="6288120" cy="32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3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1880" y="1981080"/>
            <a:ext cx="8305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8200" y="2057400"/>
            <a:ext cx="8067600" cy="3083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4944960" y="310968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40160" y="276984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551560" y="2401920"/>
            <a:ext cx="0" cy="10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2798640"/>
            <a:ext cx="796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3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8240" y="2454120"/>
            <a:ext cx="796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5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2081160"/>
            <a:ext cx="7970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7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6280" y="3808440"/>
            <a:ext cx="0" cy="72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3000" y="449748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Read measurement nearest to the end of the cann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381480"/>
            <a:ext cx="473040" cy="442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720960"/>
            <a:ext cx="1328760" cy="530280"/>
          </a:xfrm>
          <a:prstGeom prst="line">
            <a:avLst/>
          </a:prstGeom>
          <a:ln w="2844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24200" y="4114800"/>
            <a:ext cx="122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No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9880" y="4343400"/>
            <a:ext cx="1778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SIGN Depth Ga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80360" y="3632040"/>
            <a:ext cx="0" cy="750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4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133720" y="1676520"/>
            <a:ext cx="4190760" cy="4038480"/>
            <a:chOff x="2133720" y="1676520"/>
            <a:chExt cx="4190760" cy="4038480"/>
          </a:xfrm>
        </p:grpSpPr>
        <p:sp>
          <p:nvSpPr>
            <p:cNvPr id="118" name=""/>
            <p:cNvSpPr/>
            <p:nvPr/>
          </p:nvSpPr>
          <p:spPr>
            <a:xfrm>
              <a:off x="2133720" y="1676520"/>
              <a:ext cx="4190760" cy="40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rcRect l="8211" t="0" r="12686" b="0"/>
            <a:stretch/>
          </p:blipFill>
          <p:spPr>
            <a:xfrm>
              <a:off x="2209680" y="1828800"/>
              <a:ext cx="4038840" cy="379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5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1828800"/>
            <a:ext cx="8153640" cy="2895480"/>
            <a:chOff x="609480" y="1828800"/>
            <a:chExt cx="8153640" cy="2895480"/>
          </a:xfrm>
        </p:grpSpPr>
        <p:sp>
          <p:nvSpPr>
            <p:cNvPr id="122" name=""/>
            <p:cNvSpPr/>
            <p:nvPr/>
          </p:nvSpPr>
          <p:spPr>
            <a:xfrm>
              <a:off x="609480" y="1828800"/>
              <a:ext cx="8153640" cy="28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85800" y="1905120"/>
              <a:ext cx="797544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935440" y="2606760"/>
              <a:ext cx="5827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6600"/>
                  </a:solidFill>
                  <a:uFillTx/>
                  <a:latin typeface="Times New Roman"/>
                </a:rPr>
                <a:t>Leave the screw head prominent enough for removal lat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606400" y="2854440"/>
              <a:ext cx="460440" cy="30636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2600" y="1523880"/>
            <a:ext cx="67611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Use%20140%20Drill%20with%20guide%20Tissue%20Protector" descr=""/>
          <p:cNvPicPr/>
          <p:nvPr/>
        </p:nvPicPr>
        <p:blipFill>
          <a:blip r:embed="rId2"/>
          <a:stretch/>
        </p:blipFill>
        <p:spPr>
          <a:xfrm>
            <a:off x="1281240" y="1579680"/>
            <a:ext cx="6618240" cy="4124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6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61040" y="4703760"/>
            <a:ext cx="0" cy="43668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8320" y="4687920"/>
            <a:ext cx="0" cy="43812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83520" y="4687920"/>
            <a:ext cx="0" cy="43812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13400" y="5049720"/>
            <a:ext cx="2711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6600"/>
                </a:solidFill>
                <a:latin typeface="Times New Roman"/>
              </a:rPr>
              <a:t>30mm    60mm   90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08840" y="4098600"/>
            <a:ext cx="409320" cy="42228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2720" y="3835440"/>
            <a:ext cx="1220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End of drill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9360" y="3589200"/>
            <a:ext cx="0" cy="10051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36880" y="3589200"/>
            <a:ext cx="0" cy="10051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9600" y="3290760"/>
            <a:ext cx="959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3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7280" y="3836880"/>
            <a:ext cx="297000" cy="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73800" y="4208400"/>
            <a:ext cx="133200" cy="27000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59200"/>
            <a:ext cx="1054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Cann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05560" y="5484960"/>
            <a:ext cx="1549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.140” Drill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3200" y="4654440"/>
            <a:ext cx="0" cy="917640"/>
          </a:xfrm>
          <a:prstGeom prst="line">
            <a:avLst/>
          </a:prstGeom>
          <a:ln w="1260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9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990720"/>
            <a:ext cx="27432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316320" y="1066680"/>
            <a:ext cx="2214360" cy="5515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00600" y="1295280"/>
            <a:ext cx="12747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Extractor Rod (fi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8920" y="1450800"/>
            <a:ext cx="330120" cy="3240"/>
          </a:xfrm>
          <a:prstGeom prst="line">
            <a:avLst/>
          </a:prstGeom>
          <a:ln w="1908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91240" y="2789280"/>
            <a:ext cx="1152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Slap Ha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(seco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511160" y="2553840"/>
            <a:ext cx="351000" cy="29844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191120"/>
            <a:ext cx="1217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T-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(thi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91160" y="4368960"/>
            <a:ext cx="234720" cy="42372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20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81280" y="1219320"/>
            <a:ext cx="2057400" cy="5486400"/>
            <a:chOff x="3581280" y="1219320"/>
            <a:chExt cx="2057400" cy="5486400"/>
          </a:xfrm>
        </p:grpSpPr>
        <p:sp>
          <p:nvSpPr>
            <p:cNvPr id="154" name=""/>
            <p:cNvSpPr/>
            <p:nvPr/>
          </p:nvSpPr>
          <p:spPr>
            <a:xfrm>
              <a:off x="3581280" y="1219320"/>
              <a:ext cx="205740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630600" y="1295280"/>
              <a:ext cx="19224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098960" y="3792600"/>
              <a:ext cx="371520" cy="473040"/>
            </a:xfrm>
            <a:custGeom>
              <a:avLst/>
              <a:gdLst>
                <a:gd name="textAreaLeft" fmla="*/ 49680 w 371520"/>
                <a:gd name="textAreaRight" fmla="*/ 321840 w 371520"/>
                <a:gd name="textAreaTop" fmla="*/ 82800 h 473040"/>
                <a:gd name="textAreaBottom" fmla="*/ 34308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80000" y="3792600"/>
              <a:ext cx="341280" cy="488880"/>
            </a:xfrm>
            <a:custGeom>
              <a:avLst/>
              <a:gdLst>
                <a:gd name="textAreaLeft" fmla="*/ 45720 w 341280"/>
                <a:gd name="textAreaRight" fmla="*/ 295560 w 341280"/>
                <a:gd name="textAreaTop" fmla="*/ 85320 h 488880"/>
                <a:gd name="textAreaBottom" fmla="*/ 35496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55" stAng="-5400000" swAng="5400000"/>
                  <a:lnTo>
                    <a:pt x="21600" y="11897"/>
                  </a:lnTo>
                  <a:arcTo wR="21600" hR="7555" stAng="0" swAng="2681386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77"/>
                  </a:lnTo>
                  <a:arcTo wR="21600" hR="7555" stAng="2681386" swAng="-2321959"/>
                  <a:lnTo>
                    <a:pt x="20689" y="9726"/>
                  </a:lnTo>
                  <a:arcTo wR="21600" hR="7555" stAng="-359427" swAng="-5040573"/>
                  <a:close/>
                </a:path>
                <a:path fill="darkenLess" w="21600" h="21600">
                  <a:moveTo>
                    <a:pt x="0" y="0"/>
                  </a:moveTo>
                  <a:arcTo wR="21600" hR="7555" stAng="-5400000" swAng="5400000"/>
                  <a:lnTo>
                    <a:pt x="21600" y="11897"/>
                  </a:lnTo>
                  <a:arcTo wR="21600" hR="7555" stAng="0" swAng="-359427"/>
                  <a:lnTo>
                    <a:pt x="20689" y="9726"/>
                  </a:lnTo>
                  <a:arcTo wR="21600" hR="7555" stAng="-359427" swAng="-5040573"/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3520" y="2249640"/>
              <a:ext cx="309600" cy="426960"/>
            </a:xfrm>
            <a:prstGeom prst="upArrow">
              <a:avLst>
                <a:gd name="adj1" fmla="val 50000"/>
                <a:gd name="adj2" fmla="val 34477"/>
              </a:avLst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21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25800" y="1600200"/>
            <a:ext cx="3092400" cy="4181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61" name=""/>
          <p:cNvSpPr/>
          <p:nvPr/>
        </p:nvSpPr>
        <p:spPr>
          <a:xfrm flipH="1">
            <a:off x="4714920" y="2311560"/>
            <a:ext cx="285840" cy="22860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2133720"/>
            <a:ext cx="1158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In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s 1 and 2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86400" y="1143000"/>
            <a:ext cx="2362320" cy="4952880"/>
            <a:chOff x="5486400" y="1143000"/>
            <a:chExt cx="2362320" cy="4952880"/>
          </a:xfrm>
        </p:grpSpPr>
        <p:sp>
          <p:nvSpPr>
            <p:cNvPr id="44" name=""/>
            <p:cNvSpPr/>
            <p:nvPr/>
          </p:nvSpPr>
          <p:spPr>
            <a:xfrm>
              <a:off x="5486400" y="1143000"/>
              <a:ext cx="236232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Nail%20T-Handle%20Notch%20Fit%20New%20Ver" descr=""/>
            <p:cNvPicPr/>
            <p:nvPr/>
          </p:nvPicPr>
          <p:blipFill>
            <a:blip r:embed="rId2"/>
            <a:stretch/>
          </p:blipFill>
          <p:spPr>
            <a:xfrm>
              <a:off x="6242040" y="1276200"/>
              <a:ext cx="1038240" cy="45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857920" y="2576520"/>
              <a:ext cx="1792080" cy="168912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18080" y="5638680"/>
              <a:ext cx="141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00"/>
                  </a:solidFill>
                  <a:latin typeface="Times New Roman"/>
                </a:rPr>
                <a:t>Figur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09480" y="1143000"/>
            <a:ext cx="4267440" cy="4952880"/>
            <a:chOff x="609480" y="1143000"/>
            <a:chExt cx="4267440" cy="4952880"/>
          </a:xfrm>
        </p:grpSpPr>
        <p:sp>
          <p:nvSpPr>
            <p:cNvPr id="49" name=""/>
            <p:cNvSpPr/>
            <p:nvPr/>
          </p:nvSpPr>
          <p:spPr>
            <a:xfrm>
              <a:off x="609480" y="1143000"/>
              <a:ext cx="426744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T-Handle%20Nail%20Bolt%20New%20Ver" descr=""/>
            <p:cNvPicPr/>
            <p:nvPr/>
          </p:nvPicPr>
          <p:blipFill>
            <a:blip r:embed="rId3"/>
            <a:stretch/>
          </p:blipFill>
          <p:spPr>
            <a:xfrm>
              <a:off x="776160" y="1406520"/>
              <a:ext cx="3916440" cy="44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71800" y="56386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00"/>
                  </a:solidFill>
                  <a:latin typeface="Times New Roman"/>
                </a:rPr>
                <a:t>Figur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3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11480" y="1143000"/>
            <a:ext cx="29196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287880" y="1319040"/>
            <a:ext cx="25574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4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76720" y="1219320"/>
            <a:ext cx="2590560" cy="5410080"/>
            <a:chOff x="3276720" y="1219320"/>
            <a:chExt cx="2590560" cy="5410080"/>
          </a:xfrm>
        </p:grpSpPr>
        <p:sp>
          <p:nvSpPr>
            <p:cNvPr id="57" name=""/>
            <p:cNvSpPr/>
            <p:nvPr/>
          </p:nvSpPr>
          <p:spPr>
            <a:xfrm>
              <a:off x="3276720" y="1219320"/>
              <a:ext cx="259056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389040" y="1295280"/>
              <a:ext cx="2350800" cy="52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6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24160" y="2449440"/>
            <a:ext cx="4495680" cy="3504960"/>
            <a:chOff x="2324160" y="2449440"/>
            <a:chExt cx="4495680" cy="3504960"/>
          </a:xfrm>
        </p:grpSpPr>
        <p:sp>
          <p:nvSpPr>
            <p:cNvPr id="61" name=""/>
            <p:cNvSpPr/>
            <p:nvPr/>
          </p:nvSpPr>
          <p:spPr>
            <a:xfrm>
              <a:off x="2324160" y="2449440"/>
              <a:ext cx="4495680" cy="35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547720" y="2643120"/>
              <a:ext cx="4043160" cy="30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912960" y="1319040"/>
            <a:ext cx="70596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This  shows where to prepare the hole, using the awl, in the proximal tibia.  —   Usual entry is proximal to the medial third of the tibial tube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22480" y="1562040"/>
            <a:ext cx="4971960" cy="394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7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24120" y="2146320"/>
            <a:ext cx="2922840" cy="282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65800" y="3354480"/>
            <a:ext cx="11048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Bol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65680" y="1590840"/>
            <a:ext cx="20908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Pressure toward foot to keep fracture from distra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70280" y="214308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1480" y="2286000"/>
            <a:ext cx="1197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T-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9720" y="24955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2480" y="3513240"/>
            <a:ext cx="17841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Nail in bone past fracture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1120" y="3800520"/>
            <a:ext cx="75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92480" y="4246560"/>
            <a:ext cx="1495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Hold foot to keep the tibia at right angle to th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87840" y="4438800"/>
            <a:ext cx="50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8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219320"/>
            <a:ext cx="2438280" cy="51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-Handle%20Tissue%20Protector%20Bone%20Target%20Arms" descr=""/>
          <p:cNvPicPr/>
          <p:nvPr/>
        </p:nvPicPr>
        <p:blipFill>
          <a:blip r:embed="rId2"/>
          <a:stretch/>
        </p:blipFill>
        <p:spPr>
          <a:xfrm>
            <a:off x="3570120" y="1442880"/>
            <a:ext cx="22194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82880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9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488360" cy="3273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9760" y="2465280"/>
            <a:ext cx="14097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Hold the cannula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To stabilize </a:t>
            </a:r>
            <a:br>
              <a:rPr sz="1800"/>
            </a:b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it against </a:t>
            </a:r>
            <a:br>
              <a:rPr sz="1800"/>
            </a:b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the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0280" y="2809800"/>
            <a:ext cx="474480" cy="620640"/>
          </a:xfrm>
          <a:prstGeom prst="downArrow">
            <a:avLst>
              <a:gd name="adj1" fmla="val 50000"/>
              <a:gd name="adj2" fmla="val 3270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3520" y="3784680"/>
            <a:ext cx="471240" cy="620640"/>
          </a:xfrm>
          <a:prstGeom prst="upArrow">
            <a:avLst>
              <a:gd name="adj1" fmla="val 50000"/>
              <a:gd name="adj2" fmla="val 3292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21440" y="37623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114800"/>
            <a:ext cx="2514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When this mark disappears, the cortex has been drilled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91480" y="3317760"/>
            <a:ext cx="244440" cy="462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019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igure 10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43000" y="1752480"/>
            <a:ext cx="6477120" cy="3429000"/>
            <a:chOff x="1143000" y="1752480"/>
            <a:chExt cx="6477120" cy="3429000"/>
          </a:xfrm>
        </p:grpSpPr>
        <p:sp>
          <p:nvSpPr>
            <p:cNvPr id="90" name=""/>
            <p:cNvSpPr/>
            <p:nvPr/>
          </p:nvSpPr>
          <p:spPr>
            <a:xfrm>
              <a:off x="1143000" y="1752480"/>
              <a:ext cx="647712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219320" y="1770120"/>
              <a:ext cx="6324480" cy="33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8:25:35Z</dcterms:created>
  <dc:creator>Mary Anne Lauby</dc:creator>
  <dc:description/>
  <dc:language>en-US</dc:language>
  <cp:lastModifiedBy>Mary Anne Lauby</cp:lastModifiedBy>
  <dcterms:modified xsi:type="dcterms:W3CDTF">2002-11-26T01:24:55Z</dcterms:modified>
  <cp:revision>25</cp:revision>
  <dc:subject/>
  <dc:title>PowerPoint Presentation</dc:title>
</cp:coreProperties>
</file>